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EDF8-69BD-4F6F-AFEF-B568EBC4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BEFC-591B-4B87-A7E3-71311394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EA50-125E-4E37-827B-FA845C73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510-4D2B-4FDA-BFB8-98EF5A33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92F6-27DB-4BB1-9683-8AB8D638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73DB-470F-423D-B0AE-165551B3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92C4-9508-4432-889C-3CBEF563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F6CD-3D92-436A-845C-BECE3023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2103-ECCB-41BF-B8BC-9B858DCA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12CF-DEC3-459C-976D-510DD709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41E6-0839-4375-82EA-7164751B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D90B-E134-4D93-9C15-695CF948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2612-E37F-4581-9962-7C46335C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53A6-B196-4214-AABE-6A81726C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44E5-C5FD-403C-AC9D-C0C83BF4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09BE-8262-4AB2-8FA3-D5A811DB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F90F-7537-4A4D-996F-65F61E4A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97234-6C5B-4EF9-AB39-C5BB1452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A4798-5EFB-4AAA-BF8C-80D439DB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5C52C-D650-464C-BE65-4AA2CF24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8A164-B26A-4201-954E-946455D1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00726-8109-4F69-A122-D44DC7ED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3F3C-312C-46D6-B866-85E20159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9A462-8A9A-47A1-9D35-FC62DD00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2E4CA-0CB9-4121-A87A-FA11D793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8BD00-E6F1-4889-A14A-D0D8A929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9E3BB-9F2C-4FB0-9D95-FF77561C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BE57F-7151-4718-8D43-BF0B1EF9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A9291-7406-4431-937D-E288B237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A2183-CA61-4D03-8E47-347CFF81A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7B3B0-5C17-43E0-AA1F-8FF63DCA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83C14-7978-4B38-B03D-BEE7EBC4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724AE-DA87-4494-8D93-D9193F22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7C72-EBF4-493C-AC19-E8B8435F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4C8FE-D516-421C-A9E9-735C8F99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F55C6-FE23-4058-ABC6-D0118C03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A4B54-AF21-462D-B8EA-668C773D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DA42E-0FFA-4C52-B936-0D617FAC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6E637-0D0C-4519-9EAD-D2DD73CF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D96C3-3B26-4E8F-BD82-1254384F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BE1F4-74ED-4DA7-AEEB-671C44EF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5D2B7-D434-43EC-8ACC-40B6E1D4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17E5A-3D04-473C-823F-5D6E16A2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54F1-3B8A-4ECA-A7C7-AE5E86C6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1F90-85C3-4217-8791-3216138F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2A7E-F003-4EAA-8918-26DFAA9D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CD3F-A0F3-44D5-81AB-E42365BA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F14A-11BE-46BE-94C2-F409F96F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65e7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8961-36BC-43D0-8BCC-82D36C7616B0}" type="slidenum">
              <a:rPr b="0" lang="es-ES" sz="1200" spc="-1" strike="noStrike">
                <a:solidFill>
                  <a:srgbClr val="565e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aca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D5AC-FCDA-446E-9086-EECFBFB06949}" type="slidenum">
              <a:rPr b="0" lang="es-ES" sz="1200" spc="-1" strike="noStrike">
                <a:solidFill>
                  <a:srgbClr val="caca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aca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4D70-F833-4076-A4B5-BB4F49B1CFB2}" type="slidenum">
              <a:rPr b="0" lang="es-ES" sz="1200" spc="-1" strike="noStrike">
                <a:solidFill>
                  <a:srgbClr val="caca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65e7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ECC0-13E3-4EC7-9CB5-02E39DAB2A09}" type="slidenum">
              <a:rPr b="0" lang="es-ES" sz="1200" spc="-1" strike="noStrike">
                <a:solidFill>
                  <a:srgbClr val="565e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Referente clásico de Indian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Jones y la última cruzad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3 CuadroTexto"/>
          <p:cNvSpPr/>
          <p:nvPr/>
        </p:nvSpPr>
        <p:spPr>
          <a:xfrm>
            <a:off x="928800" y="5572080"/>
            <a:ext cx="72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Zara Queralt Martínez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d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CuadroTexto"/>
          <p:cNvSpPr/>
          <p:nvPr/>
        </p:nvSpPr>
        <p:spPr>
          <a:xfrm>
            <a:off x="928800" y="714240"/>
            <a:ext cx="82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LAS FAS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onstantia"/>
              </a:rPr>
              <a:t>1.El encargo prev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1.1                                                         1.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·Imagen 1.1 : el rey de Eetes , Pelias , le hizo el encargo previo a Jasón, el vellocino de oro, para así coronarlo nuevo rey. Tal como el oráculo le decía al rey , un hombre con una  sola sandalia le arrebataría su reino. El la imagen 1.2 tenemos el encargo previo ,el santo grial, que su padre le pid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4 Imagen" descr="07000[1].jpg"/>
          <p:cNvPicPr/>
          <p:nvPr/>
        </p:nvPicPr>
        <p:blipFill>
          <a:blip r:embed="rId1"/>
          <a:stretch/>
        </p:blipFill>
        <p:spPr>
          <a:xfrm>
            <a:off x="1214280" y="2143080"/>
            <a:ext cx="1714680" cy="2392560"/>
          </a:xfrm>
          <a:prstGeom prst="rect">
            <a:avLst/>
          </a:prstGeom>
          <a:ln w="0">
            <a:noFill/>
          </a:ln>
        </p:spPr>
      </p:pic>
      <p:pic>
        <p:nvPicPr>
          <p:cNvPr id="200" name="5 Imagen" descr="encargo previo de indy.jpg"/>
          <p:cNvPicPr/>
          <p:nvPr/>
        </p:nvPicPr>
        <p:blipFill>
          <a:blip r:embed="rId2"/>
          <a:stretch/>
        </p:blipFill>
        <p:spPr>
          <a:xfrm>
            <a:off x="4572000" y="2143080"/>
            <a:ext cx="4000680" cy="221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" dur="2000"/>
                                        <p:tgtEl>
                                          <p:spTgt spid="1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9000"/>
                            </p:stCondLst>
                            <p:childTnLst>
                              <p:par>
                                <p:cTn id="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d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CuadroTexto"/>
          <p:cNvSpPr/>
          <p:nvPr/>
        </p:nvSpPr>
        <p:spPr>
          <a:xfrm>
            <a:off x="714240" y="1071720"/>
            <a:ext cx="8215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onstantia"/>
              </a:rPr>
              <a:t>2.El viaje largo y accidentad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2.1                                                                  2.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·Imagen 2.1:  Jasón y los argonautas  cruzando las rocas cianeas en su largo viaje accidentado así llamado por  sus numerosos  imprevistos durante este . En la imagen 2.2 :esta imagen representa a las rocas cianeas que tiene que pasa por el medi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4 Imagen" descr="Image24[1].jpg"/>
          <p:cNvPicPr/>
          <p:nvPr/>
        </p:nvPicPr>
        <p:blipFill>
          <a:blip r:embed="rId1"/>
          <a:stretch/>
        </p:blipFill>
        <p:spPr>
          <a:xfrm>
            <a:off x="785880" y="1928880"/>
            <a:ext cx="3181320" cy="2239920"/>
          </a:xfrm>
          <a:prstGeom prst="rect">
            <a:avLst/>
          </a:prstGeom>
          <a:ln w="0">
            <a:noFill/>
          </a:ln>
        </p:spPr>
      </p:pic>
      <p:pic>
        <p:nvPicPr>
          <p:cNvPr id="203" name="6 Imagen" descr="rocas cianeas en indiana jones.jpg"/>
          <p:cNvPicPr/>
          <p:nvPr/>
        </p:nvPicPr>
        <p:blipFill>
          <a:blip r:embed="rId2"/>
          <a:stretch/>
        </p:blipFill>
        <p:spPr>
          <a:xfrm>
            <a:off x="4857840" y="1928880"/>
            <a:ext cx="3571920" cy="226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d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CuadroTexto"/>
          <p:cNvSpPr/>
          <p:nvPr/>
        </p:nvSpPr>
        <p:spPr>
          <a:xfrm>
            <a:off x="714240" y="1143000"/>
            <a:ext cx="8001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onstantia"/>
              </a:rPr>
              <a:t>3.Llegada al luga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3.1                                                              3.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·Imagen 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3.1 :llegada al lugar  y enfrentamiento por conseguir  el vellocino de oro . En la imagen 3.2  observamos que Indiana , tras la llegada al lugar destinado , tiene que enfrentarse con la competencia , los aleman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4 Imagen" descr="mitojason1[1].jpg"/>
          <p:cNvPicPr/>
          <p:nvPr/>
        </p:nvPicPr>
        <p:blipFill>
          <a:blip r:embed="rId1"/>
          <a:stretch/>
        </p:blipFill>
        <p:spPr>
          <a:xfrm>
            <a:off x="857160" y="2143080"/>
            <a:ext cx="2683080" cy="2214720"/>
          </a:xfrm>
          <a:prstGeom prst="rect">
            <a:avLst/>
          </a:prstGeom>
          <a:ln w="0">
            <a:noFill/>
          </a:ln>
        </p:spPr>
      </p:pic>
      <p:pic>
        <p:nvPicPr>
          <p:cNvPr id="206" name="6 Imagen" descr="viaje accidentado de indy.jpg"/>
          <p:cNvPicPr/>
          <p:nvPr/>
        </p:nvPicPr>
        <p:blipFill>
          <a:blip r:embed="rId2"/>
          <a:stretch/>
        </p:blipFill>
        <p:spPr>
          <a:xfrm>
            <a:off x="5000760" y="2143080"/>
            <a:ext cx="3786120" cy="213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d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4 CuadroTexto"/>
          <p:cNvSpPr/>
          <p:nvPr/>
        </p:nvSpPr>
        <p:spPr>
          <a:xfrm>
            <a:off x="571680" y="1143000"/>
            <a:ext cx="80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onstantia"/>
              </a:rPr>
              <a:t>4.La ayuda inesperada y amoros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4.1                                                                   4.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·Imagen 4.1:  Aparece Medea , hija del rey, para ayudar a Jasón a pasar las pruebas para conseguir el vellocino de oro . En la 4.2 Indiana recibe la ayuda inesperada de  Elsa , la joven alemana que había ido contra él al principio de la búsqueda. Ayuda a elegir mal la copa a uno de los suyos par así darsela a Ind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5 Imagen" descr="jasonmedea[1].jpg"/>
          <p:cNvPicPr/>
          <p:nvPr/>
        </p:nvPicPr>
        <p:blipFill>
          <a:blip r:embed="rId1"/>
          <a:stretch/>
        </p:blipFill>
        <p:spPr>
          <a:xfrm>
            <a:off x="714240" y="2071800"/>
            <a:ext cx="2286000" cy="2786040"/>
          </a:xfrm>
          <a:prstGeom prst="rect">
            <a:avLst/>
          </a:prstGeom>
          <a:ln w="0">
            <a:noFill/>
          </a:ln>
        </p:spPr>
      </p:pic>
      <p:pic>
        <p:nvPicPr>
          <p:cNvPr id="209" name="6 Imagen" descr="fsdadgag.jpg"/>
          <p:cNvPicPr/>
          <p:nvPr/>
        </p:nvPicPr>
        <p:blipFill>
          <a:blip r:embed="rId2"/>
          <a:stretch/>
        </p:blipFill>
        <p:spPr>
          <a:xfrm>
            <a:off x="4857840" y="2143080"/>
            <a:ext cx="3643200" cy="276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2000"/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d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4 CuadroTexto"/>
          <p:cNvSpPr/>
          <p:nvPr/>
        </p:nvSpPr>
        <p:spPr>
          <a:xfrm>
            <a:off x="571680" y="1357200"/>
            <a:ext cx="8072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onstantia"/>
              </a:rPr>
              <a:t>5.Huída accidentad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5.1                                                            5.2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·Podemos observar   en la imagen 5.1 a los argonautas huyendo por el Danubio perseguidos por los  colcos  y luego los argonautas consiguieron la victoria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n la imagen 5.2 aparece la huida de India Jones  escapando de los aleman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5 Imagen" descr="argonautas1[1].jpg"/>
          <p:cNvPicPr/>
          <p:nvPr/>
        </p:nvPicPr>
        <p:blipFill>
          <a:blip r:embed="rId1"/>
          <a:stretch/>
        </p:blipFill>
        <p:spPr>
          <a:xfrm>
            <a:off x="785880" y="2286000"/>
            <a:ext cx="2428920" cy="2357280"/>
          </a:xfrm>
          <a:prstGeom prst="rect">
            <a:avLst/>
          </a:prstGeom>
          <a:ln w="0">
            <a:noFill/>
          </a:ln>
        </p:spPr>
      </p:pic>
      <p:pic>
        <p:nvPicPr>
          <p:cNvPr id="212" name="3 Imagen" descr="persecucion.jpg"/>
          <p:cNvPicPr/>
          <p:nvPr/>
        </p:nvPicPr>
        <p:blipFill>
          <a:blip r:embed="rId2"/>
          <a:stretch/>
        </p:blipFill>
        <p:spPr>
          <a:xfrm>
            <a:off x="4286160" y="2286000"/>
            <a:ext cx="4143600" cy="2355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d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3 CuadroTexto"/>
          <p:cNvSpPr/>
          <p:nvPr/>
        </p:nvSpPr>
        <p:spPr>
          <a:xfrm>
            <a:off x="571680" y="1285920"/>
            <a:ext cx="8143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onstantia"/>
              </a:rPr>
              <a:t>6.Retorno victorios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6.1                                                                     6.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·Imagen 6.1: Jasón , tras pasar las pruebas que el rey le había impuesto , a logrado conseguir el vellocino de oro. En la siguiente imagen aparece Indiana Jones con el cáliz ,mediante la ayuda de su libro a logrado conseguirl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4 Imagen" descr="argonautas%20Jason%20De%20Erasmo%20Quellinus[1].jpg"/>
          <p:cNvPicPr/>
          <p:nvPr/>
        </p:nvPicPr>
        <p:blipFill>
          <a:blip r:embed="rId1"/>
          <a:stretch/>
        </p:blipFill>
        <p:spPr>
          <a:xfrm>
            <a:off x="714240" y="2214720"/>
            <a:ext cx="2786040" cy="2286000"/>
          </a:xfrm>
          <a:prstGeom prst="rect">
            <a:avLst/>
          </a:prstGeom>
          <a:ln w="0">
            <a:noFill/>
          </a:ln>
        </p:spPr>
      </p:pic>
      <p:pic>
        <p:nvPicPr>
          <p:cNvPr id="215" name="5 Imagen" descr="indiana con el cáliz.jpg"/>
          <p:cNvPicPr/>
          <p:nvPr/>
        </p:nvPicPr>
        <p:blipFill>
          <a:blip r:embed="rId2"/>
          <a:stretch/>
        </p:blipFill>
        <p:spPr>
          <a:xfrm>
            <a:off x="5000760" y="2214720"/>
            <a:ext cx="3571920" cy="228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7:07:22Z</dcterms:created>
  <dc:creator>LG</dc:creator>
  <dc:description/>
  <dc:language>en-US</dc:language>
  <cp:lastModifiedBy>LG</cp:lastModifiedBy>
  <dcterms:modified xsi:type="dcterms:W3CDTF">2010-01-31T19:36:57Z</dcterms:modified>
  <cp:revision>29</cp:revision>
  <dc:subject/>
  <dc:title>JASÓN Y LOS ARGONAUTAS</dc:title>
</cp:coreProperties>
</file>